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8267-1F53-4CAC-BAC2-6055B0F2E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E072-D9AD-487C-844E-00E25C4326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347-806B-45C4-99D6-A32CA7CF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802-3196-4969-AA4B-C2765ECB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6D0-6D3C-4E5C-8FD5-EFD882EA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756-D587-41B2-BEC4-E87DAB55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089-A5EE-4829-9A3E-9EB0ACAB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18D-EEE5-4CC4-B4F8-DF1BA397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08A-01D5-4908-976D-8D904C39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17B-57FD-4482-8023-D8AAC8C9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BBF-0A51-4433-9694-8E0D59A1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F05-648C-4F4F-BA6E-4C79073C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585-5AE9-437C-AE83-9E2CB7DB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21C-8DDC-42CE-8BE6-BB4A54E7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08F4-4069-49A7-AA9B-95778B6BB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dn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5/19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362320"/>
            <a:ext cx="74674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orce and Motion Qui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ave Intro Slinky’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9673" t="36634" r="30769" b="23813"/>
          <a:stretch/>
        </p:blipFill>
        <p:spPr>
          <a:xfrm>
            <a:off x="45720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95880" y="152280"/>
            <a:ext cx="28195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# 6 -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13282" t="15627" r="14844" b="13540"/>
          <a:stretch/>
        </p:blipFill>
        <p:spPr>
          <a:xfrm>
            <a:off x="228600" y="228600"/>
            <a:ext cx="8534520" cy="6308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5715000"/>
            <a:ext cx="28195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# 6 -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13282" t="14584" r="14844" b="13540"/>
          <a:stretch/>
        </p:blipFill>
        <p:spPr>
          <a:xfrm>
            <a:off x="30492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72200" y="152280"/>
            <a:ext cx="28195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# 9 -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52280" y="76320"/>
            <a:ext cx="2438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view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572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Berlin Sans FB"/>
              </a:rPr>
              <a:t>Identify the parts of a wav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683160"/>
            <a:ext cx="8686800" cy="289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Wavelength (crest to crest, trough to trough, or point to corresponding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= Amplitude (from rest to crest or crest to trou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trough (bottom of w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= Crest (top of w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3840" y="1233360"/>
            <a:ext cx="8867880" cy="2271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1371600"/>
            <a:ext cx="3200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04560" y="1676520"/>
            <a:ext cx="14475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16765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2590920"/>
            <a:ext cx="381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8440" y="2666880"/>
            <a:ext cx="380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2200" y="2647800"/>
            <a:ext cx="3812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29080" y="1314360"/>
            <a:ext cx="3812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295280"/>
            <a:ext cx="380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86800" y="1295280"/>
            <a:ext cx="380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971800"/>
            <a:ext cx="3657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514600"/>
            <a:ext cx="380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2438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1538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28335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440" y="250308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ing in a mousetrap by Fri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velength of the wave in the diagram above is given by letter ______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508640" y="2286000"/>
          <a:ext cx="457200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86000"/>
                    <a:ext cx="45720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ResponseCounter"/>
          <p:cNvGrpSpPr/>
          <p:nvPr/>
        </p:nvGrpSpPr>
        <p:grpSpPr>
          <a:xfrm>
            <a:off x="127080" y="1600200"/>
            <a:ext cx="1511280" cy="5130360"/>
            <a:chOff x="127080" y="1600200"/>
            <a:chExt cx="1511280" cy="5130360"/>
          </a:xfrm>
        </p:grpSpPr>
        <p:sp>
          <p:nvSpPr>
            <p:cNvPr id="102" name="RCPole"/>
            <p:cNvSpPr/>
            <p:nvPr/>
          </p:nvSpPr>
          <p:spPr>
            <a:xfrm>
              <a:off x="317520" y="1804320"/>
              <a:ext cx="0" cy="4806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CFlag"/>
            <p:cNvSpPr/>
            <p:nvPr/>
          </p:nvSpPr>
          <p:spPr>
            <a:xfrm>
              <a:off x="368280" y="5889600"/>
              <a:ext cx="1270080" cy="72072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3240 h 720720"/>
                <a:gd name="textAreaBottom" fmla="*/ 6274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CTop"/>
            <p:cNvSpPr/>
            <p:nvPr/>
          </p:nvSpPr>
          <p:spPr>
            <a:xfrm>
              <a:off x="127080" y="1600200"/>
              <a:ext cx="381240" cy="2401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CBottom"/>
            <p:cNvSpPr/>
            <p:nvPr/>
          </p:nvSpPr>
          <p:spPr>
            <a:xfrm>
              <a:off x="127080" y="6610680"/>
              <a:ext cx="406440" cy="1198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4114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109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plitude of the wave in the diagram above is given by letter _____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TPChart"/>
          <p:cNvGraphicFramePr/>
          <p:nvPr/>
        </p:nvGraphicFramePr>
        <p:xfrm>
          <a:off x="4508640" y="2286000"/>
          <a:ext cx="457200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86000"/>
                    <a:ext cx="45720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ResponseCounter"/>
          <p:cNvGrpSpPr/>
          <p:nvPr/>
        </p:nvGrpSpPr>
        <p:grpSpPr>
          <a:xfrm>
            <a:off x="127080" y="1600200"/>
            <a:ext cx="1511280" cy="5130360"/>
            <a:chOff x="127080" y="1600200"/>
            <a:chExt cx="1511280" cy="5130360"/>
          </a:xfrm>
        </p:grpSpPr>
        <p:sp>
          <p:nvSpPr>
            <p:cNvPr id="115" name="RCPole"/>
            <p:cNvSpPr/>
            <p:nvPr/>
          </p:nvSpPr>
          <p:spPr>
            <a:xfrm>
              <a:off x="317520" y="1804320"/>
              <a:ext cx="0" cy="4806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CFlag"/>
            <p:cNvSpPr/>
            <p:nvPr/>
          </p:nvSpPr>
          <p:spPr>
            <a:xfrm>
              <a:off x="368280" y="5889600"/>
              <a:ext cx="1270080" cy="72072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3240 h 720720"/>
                <a:gd name="textAreaBottom" fmla="*/ 6274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CTop"/>
            <p:cNvSpPr/>
            <p:nvPr/>
          </p:nvSpPr>
          <p:spPr>
            <a:xfrm>
              <a:off x="127080" y="1600200"/>
              <a:ext cx="381240" cy="2401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CBottom"/>
            <p:cNvSpPr/>
            <p:nvPr/>
          </p:nvSpPr>
          <p:spPr>
            <a:xfrm>
              <a:off x="127080" y="6610680"/>
              <a:ext cx="406440" cy="1198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4114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122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the interval which represents one full wavelength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TPChart"/>
          <p:cNvGraphicFramePr/>
          <p:nvPr/>
        </p:nvGraphicFramePr>
        <p:xfrm>
          <a:off x="4508640" y="2286000"/>
          <a:ext cx="457200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86000"/>
                    <a:ext cx="45720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" name="ResponseCounter"/>
          <p:cNvGrpSpPr/>
          <p:nvPr/>
        </p:nvGrpSpPr>
        <p:grpSpPr>
          <a:xfrm>
            <a:off x="127080" y="1600200"/>
            <a:ext cx="1511280" cy="5130360"/>
            <a:chOff x="127080" y="1600200"/>
            <a:chExt cx="1511280" cy="5130360"/>
          </a:xfrm>
        </p:grpSpPr>
        <p:sp>
          <p:nvSpPr>
            <p:cNvPr id="128" name="RCPole"/>
            <p:cNvSpPr/>
            <p:nvPr/>
          </p:nvSpPr>
          <p:spPr>
            <a:xfrm>
              <a:off x="317520" y="1804320"/>
              <a:ext cx="0" cy="48060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CFlag"/>
            <p:cNvSpPr/>
            <p:nvPr/>
          </p:nvSpPr>
          <p:spPr>
            <a:xfrm>
              <a:off x="368280" y="5889600"/>
              <a:ext cx="1270080" cy="72072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3240 h 720720"/>
                <a:gd name="textAreaBottom" fmla="*/ 6274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CTop"/>
            <p:cNvSpPr/>
            <p:nvPr/>
          </p:nvSpPr>
          <p:spPr>
            <a:xfrm>
              <a:off x="127080" y="1600200"/>
              <a:ext cx="381240" cy="2401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CBottom"/>
            <p:cNvSpPr/>
            <p:nvPr/>
          </p:nvSpPr>
          <p:spPr>
            <a:xfrm>
              <a:off x="127080" y="6610680"/>
              <a:ext cx="406440" cy="1198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4114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to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to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135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76320" y="76320"/>
            <a:ext cx="2895120" cy="635040"/>
            <a:chOff x="76320" y="76320"/>
            <a:chExt cx="2895120" cy="63504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6681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761040" y="153360"/>
              <a:ext cx="2210400" cy="50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57200" y="685800"/>
            <a:ext cx="8077320" cy="60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READY FOR OUR 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t Name and Class on bubble sh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out pencil and any notes/papers/key questions you have completed…you MAY use these on the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Clear Desks for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and Moti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s Textbook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waves Chai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traps by Fr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ravels in wa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AB0A42D3-E37E-43D9-818E-06513C52959C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16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Identify and describe the parts of a wave.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ce and Motion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do not write on quizz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in quiz and bubble sheet when you fi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ound and light book and read pages 18 to 22 until everyone is finished with the quiz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and read pages 14-17 if you finish the first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038480" y="4038480"/>
            <a:ext cx="464832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533520"/>
            <a:ext cx="8381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king Waves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king Wa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chain supplied to make some waves on your desktop. (Draw in Note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textbook to define the terms “Crest” and “Trough”.  (Write in Note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a crest and trough on your drawing from step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extbook to define the term “Amplitude”.  (Record in Note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waves with large and small amplitudes and draw an example of each in your note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extbook to define and record the term “Wavelength”. (Write in Note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 making waves with long and short wavelengths using the chain suppl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picture of a wave with a long wavelength and a picture of a wave with a short wave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extbook to define the term “Frequency”.  (Record in Note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waves with high and low frequency and draw an example of each in your note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r waves with low frequency compare to the waves with long wavelengths you drew in step 6?  What about when you compare high frequency and short waveleng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draw a final wave example and label all of the parts you learned about during this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29591" t="36738" r="31633" b="22449"/>
          <a:stretch/>
        </p:blipFill>
        <p:spPr>
          <a:xfrm>
            <a:off x="609480" y="380880"/>
            <a:ext cx="7848720" cy="6195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212760"/>
            <a:ext cx="28195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# 2 &amp;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29167" t="37501" r="30208" b="23611"/>
          <a:stretch/>
        </p:blipFill>
        <p:spPr>
          <a:xfrm>
            <a:off x="228600" y="228600"/>
            <a:ext cx="8763120" cy="6291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5638680"/>
            <a:ext cx="28195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# 4 &amp;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9:01:06Z</dcterms:created>
  <dc:creator>krmihal</dc:creator>
  <dc:description/>
  <dc:language>en-US</dc:language>
  <cp:lastModifiedBy>krmihal</cp:lastModifiedBy>
  <dcterms:modified xsi:type="dcterms:W3CDTF">2010-05-19T19:01:28Z</dcterms:modified>
  <cp:revision>1</cp:revision>
  <dc:subject/>
  <dc:title>Slide 1</dc:title>
</cp:coreProperties>
</file>